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963-95BB-42BC-94BB-02884A36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FAF-0C75-412F-BB26-5B0236C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346-D9F1-44AF-9107-27A78C01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0A8-3A21-48E3-A996-AA0F93B5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A1B1-A5FF-40D4-9B22-51FB5B34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639-74C6-4994-839B-18FD1559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6CD-7BDD-4E9E-95DE-2DB74EEB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9031-2D2F-4D82-9AE6-176A3C41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634-D041-4F68-B2E5-4A38092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983-72EB-4774-B2AF-5267011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CD6-CDCF-4F63-BCA6-3C60D14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60A-ADDD-4155-BE66-9A19F74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D246-B7E1-4706-8CF3-62C39BA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E476-2CD7-47D5-B4CE-A5138FC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CB2D-A24C-4F72-B805-CF165B1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6E9-9D4F-4668-8B20-82D97A0C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D3F3-4334-4EFA-965A-0EC6D656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4C1-1CD5-41C6-8132-F04D4FD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E34-D4C8-45B3-8289-CED01C90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7F8-C2E4-4D04-80BF-3B81B0F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779-6BB5-447C-84EE-95ADA1A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A02-70E4-4209-9BF0-9936449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B79-F7A3-4151-9AAA-14FA749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E54-97E7-4925-A782-1A6BF6CF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7973-F0C4-48CB-9180-76FAEF2420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C322-1D5C-453E-9A62-EC19E80C33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UNIVERSAL GRAVITATION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4498560"/>
            <a:ext cx="350532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rti Andreski De La Salle 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. Kepler’s First Law of Planetary Mo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2209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lanets move in elliptical orbits with the sun at one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610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381880" cy="3353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. Kepler’s Second Law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s a planet orbits the sun, a line drawn from the sun to the planet sweeps out equal areas in equal time inter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895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s the “aphelion” – when a planet is farthest from the 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066680" y="449532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257800"/>
            <a:ext cx="2819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s the “perihelion” – when a planet is closest to the 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05720" y="4495680"/>
            <a:ext cx="144756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Kepler’s Third Law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ratio of the average distance from the sun, cubed, to the period (T) squared, is the same constant, K, for all pla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/ T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= 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Newton’s Law of Universal Gravita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80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gravitational force between 2 objects of masses m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separated by distance “d”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F = G  m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 /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3341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 = 6.67 x 1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/ k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57600" y="4724280"/>
            <a:ext cx="1828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id another way…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ravitation varies directly with the product of the masses of the objects and inversely with their separation, squa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mportant: this is a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center to center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Kepler  Added…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ravitation decreases inversely with the distance, squa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1 / d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= grav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ny of these problems must be solved “differently” from most word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ough we have formulas, many of these problems are not asking for a specific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, but “how many times does the force increase” or “by what fraction is the distance reduc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lving Proces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o the solving process i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ut 1’s in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gs that don’t chang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nd numbers which represent the magnitude of th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I. Background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t is important to give credit to the handful of astronomers and physicists who shaped our thoughts on the universe more than 250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A. Aristotle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384-322 BC) – had a “geocentric” philosophy (Earth is at the center; planets and sun revolve around the Ear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. Copernicus, Nicolau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472-1543) Polish astronomer who had a “heliocentric” philosophy (Sun at center; planets revolve around it; Earth is “just another planet”, planets spin on axes; planets travel in circular orbits (wrong); stated that all matter interacts via grav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Brahe, Tycho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46-1601) Danish astronomer who was a great observer of the heavens; was anti-Copernican; moved to Prague; hired Kepl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ad a notable personal story in that he wore a gold and silver replacement nose due to losing his nose in a duel over who was a better mathemat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Kepler, Johann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71-1630) German mathematician; took Brahe’s observations and made mathematical relationships; argued that both the sun and the moon influenced the tides; wrote “planetary music”; developed “3 Laws of Planetary Motion” (to be discussed in detail soo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E. Galileo, Galilei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64-1642) Italian physicist and mathematician who studied mechanics (motion and actions of forces on bodies); adopted Copernican hypothesis of solar system; invented the first “high-powered” (30x) 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. Newton, Sir Isaac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643-1727) English mathematician and physicist;  developed the “Law of Universal Gravit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II. Important Astronomical Laws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400" y="4190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Kepler’s 3 Laws of Planetary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ewton’s Law of Universal Grav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10:47Z</dcterms:created>
  <dc:creator>andreskim</dc:creator>
  <dc:description/>
  <dc:language>en-US</dc:language>
  <cp:lastModifiedBy>andreskim</cp:lastModifiedBy>
  <dcterms:modified xsi:type="dcterms:W3CDTF">2004-11-29T17:18:00Z</dcterms:modified>
  <cp:revision>45</cp:revision>
  <dc:subject/>
  <dc:title>NOTES - EQUATIONS I. GENERAL INFO -  chem equations are expressions of reactions (rxns)  they consist of 2 parts: REACTANTS -----------&gt; PRODUCTS                         left            "yields"       right  ie: lead (II) nitrate and potassium iodide react together to form         lead (II) iodide and potassium nitrate    Pb(NO3)2       +      KI     -----&gt;      PbI2    +    KNO3 </dc:title>
</cp:coreProperties>
</file>